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B15F0-CD9D-40A7-968F-E0DE1C52F7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BB95B-4BBB-4C21-9A77-80EF761F0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E3732A-3054-49B7-AA52-3A2EB9E56D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862C77-04F3-419E-A3AB-D319068B1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727CAF-2FC6-4B7F-8C97-F22726CB27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7EC9C5-7D82-4DAE-830A-80D91FDAA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5D720A-9951-452D-9DD8-F6078DA971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2D93A5-3B38-4C36-A7A7-D4973F318C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DF67C4-6F97-42E2-BE2E-7A21B358E8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DBB2F7-1B0F-4CA3-A2DC-958F0DA78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E3E42-AA9D-423C-BEF8-1B9EDE4FB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CE302-EF0A-4364-9DA6-77BB3917D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AF9F9-AAC0-4161-8070-4AF469A57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F3F93-E388-49CD-BD45-F3F989A85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FCAE7F-D4B1-4DE5-964C-60A25E6326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FE5847-4CCC-4DC4-89C8-837729CF9B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D205BB-0D25-4D8C-9584-4861DAFBAB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375EC-33C5-42E7-BBC0-6B65107D5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5FE5D-BA43-493B-944C-65E98AF08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B2030-F299-445E-BFA5-E6526B316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51C5F-ACE4-4211-B441-E50248E34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040C8-5313-4DD8-A266-2785097BC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C2AF0-833E-4A1B-9A69-0E59C0FDD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32265-555B-42E4-ACCC-DA16103180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d9efe0"/>
                </a:gs>
                <a:gs pos="100000">
                  <a:srgbClr val="1533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4"/>
            <p:cNvSpPr/>
            <p:nvPr/>
          </p:nvSpPr>
          <p:spPr>
            <a:xfrm>
              <a:off x="0" y="0"/>
              <a:ext cx="8078760" cy="200160"/>
            </a:xfrm>
            <a:prstGeom prst="rect">
              <a:avLst/>
            </a:prstGeom>
            <a:gradFill rotWithShape="0">
              <a:gsLst>
                <a:gs pos="0">
                  <a:srgbClr val="15331e"/>
                </a:gs>
                <a:gs pos="100000">
                  <a:srgbClr val="d9efe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5"/>
            <p:cNvSpPr/>
            <p:nvPr/>
          </p:nvSpPr>
          <p:spPr>
            <a:xfrm>
              <a:off x="7953480" y="0"/>
              <a:ext cx="1203120" cy="6858000"/>
            </a:xfrm>
            <a:prstGeom prst="rect">
              <a:avLst/>
            </a:prstGeom>
            <a:gradFill rotWithShape="0">
              <a:gsLst>
                <a:gs pos="0">
                  <a:srgbClr val="8ba89e"/>
                </a:gs>
                <a:gs pos="50000">
                  <a:srgbClr val="a4c6ba"/>
                </a:gs>
                <a:gs pos="100000">
                  <a:srgbClr val="8ba89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Freeform 11"/>
                    <p:cNvSpPr/>
                    <p:nvPr/>
                  </p:nvSpPr>
                  <p:spPr>
                    <a:xfrm rot="16200000">
                      <a:off x="8752320" y="93960"/>
                      <a:ext cx="141480" cy="22608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 name="Freeform 13"/>
                  <p:cNvSpPr/>
                  <p:nvPr/>
                </p:nvSpPr>
                <p:spPr>
                  <a:xfrm rot="16200000">
                    <a:off x="8756640" y="74520"/>
                    <a:ext cx="43200" cy="56880"/>
                  </a:xfrm>
                  <a:prstGeom prst="pie">
                    <a:avLst/>
                  </a:pr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2" name="Freeform 14"/>
                  <p:cNvSpPr/>
                  <p:nvPr/>
                </p:nvSpPr>
                <p:spPr>
                  <a:xfrm rot="16200000">
                    <a:off x="8829360" y="61200"/>
                    <a:ext cx="64080" cy="37080"/>
                  </a:xfrm>
                  <a:prstGeom prst="pie">
                    <a:avLst/>
                  </a:prstGeom>
                  <a:solidFill>
                    <a:srgbClr val="e7d6b7"/>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3" name="Freeform 15"/>
                  <p:cNvSpPr/>
                  <p:nvPr/>
                </p:nvSpPr>
                <p:spPr>
                  <a:xfrm rot="16200000">
                    <a:off x="8897760" y="111600"/>
                    <a:ext cx="24480" cy="60840"/>
                  </a:xfrm>
                  <a:prstGeom prst="pie">
                    <a:avLst/>
                  </a:prstGeom>
                  <a:solidFill>
                    <a:srgbClr val="e7d6b7"/>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4" name="Freeform 16"/>
                  <p:cNvSpPr/>
                  <p:nvPr/>
                </p:nvSpPr>
                <p:spPr>
                  <a:xfrm rot="16200000">
                    <a:off x="8824320" y="191520"/>
                    <a:ext cx="64080" cy="27360"/>
                  </a:xfrm>
                  <a:prstGeom prst="pie">
                    <a:avLst/>
                  </a:prstGeom>
                  <a:solidFill>
                    <a:srgbClr val="e7d6b7"/>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15" name="Freeform 17"/>
                  <p:cNvSpPr/>
                  <p:nvPr/>
                </p:nvSpPr>
                <p:spPr>
                  <a:xfrm rot="16200000">
                    <a:off x="8772120" y="165960"/>
                    <a:ext cx="38880" cy="42120"/>
                  </a:xfrm>
                  <a:prstGeom prst="pie">
                    <a:avLst/>
                  </a:pr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Freeform 47"/>
            <p:cNvSpPr/>
            <p:nvPr/>
          </p:nvSpPr>
          <p:spPr>
            <a:xfrm>
              <a:off x="7939080" y="4857840"/>
              <a:ext cx="1219320" cy="2000160"/>
            </a:xfrm>
            <a:prstGeom prst="pie">
              <a:avLst/>
            </a:pr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Freeform 48"/>
            <p:cNvSpPr/>
            <p:nvPr/>
          </p:nvSpPr>
          <p:spPr>
            <a:xfrm>
              <a:off x="7927920" y="2817720"/>
              <a:ext cx="1231920" cy="4037040"/>
            </a:xfrm>
            <a:prstGeom prst="pie">
              <a:avLst/>
            </a:prstGeom>
            <a:gradFill rotWithShape="0">
              <a:gsLst>
                <a:gs pos="0">
                  <a:srgbClr val="27423a"/>
                </a:gs>
                <a:gs pos="50000">
                  <a:srgbClr val="558f7d"/>
                </a:gs>
                <a:gs pos="100000">
                  <a:srgbClr val="2742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Freeform 51"/>
            <p:cNvSpPr/>
            <p:nvPr/>
          </p:nvSpPr>
          <p:spPr>
            <a:xfrm>
              <a:off x="8250120" y="262080"/>
              <a:ext cx="909720" cy="3071520"/>
            </a:xfrm>
            <a:prstGeom prst="pie">
              <a:avLst/>
            </a:prstGeom>
            <a:gradFill rotWithShape="0">
              <a:gsLst>
                <a:gs pos="0">
                  <a:srgbClr val="d9efe0"/>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Freeform 53"/>
            <p:cNvSpPr/>
            <p:nvPr/>
          </p:nvSpPr>
          <p:spPr>
            <a:xfrm>
              <a:off x="7943760" y="1440"/>
              <a:ext cx="300240" cy="3353040"/>
            </a:xfrm>
            <a:prstGeom prst="pie">
              <a:avLst/>
            </a:pr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55"/>
            <p:cNvSpPr/>
            <p:nvPr/>
          </p:nvSpPr>
          <p:spPr>
            <a:xfrm>
              <a:off x="7958160" y="6229440"/>
              <a:ext cx="1165320" cy="619200"/>
            </a:xfrm>
            <a:prstGeom prst="pie">
              <a:avLst/>
            </a:prstGeom>
            <a:gradFill rotWithShape="0">
              <a:gsLst>
                <a:gs pos="0">
                  <a:srgbClr val="d9efe0"/>
                </a:gs>
                <a:gs pos="50000">
                  <a:srgbClr val="a08f5e"/>
                </a:gs>
                <a:gs pos="100000">
                  <a:srgbClr val="d9efe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AutoShape 56"/>
            <p:cNvSpPr/>
            <p:nvPr/>
          </p:nvSpPr>
          <p:spPr>
            <a:xfrm rot="5400000">
              <a:off x="4323960" y="3316320"/>
              <a:ext cx="6858000" cy="225360"/>
            </a:xfrm>
            <a:prstGeom prst="pie">
              <a:avLst/>
            </a:prstGeom>
            <a:gradFill rotWithShape="0">
              <a:gsLst>
                <a:gs pos="0">
                  <a:srgbClr val="d9efe0"/>
                </a:gs>
                <a:gs pos="100000">
                  <a:srgbClr val="15331e"/>
                </a:gs>
              </a:gsLst>
              <a:lin ang="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Click to edit the title text format</a:t>
            </a:r>
            <a:endParaRPr b="0" lang="en-US" sz="4000" spc="-1" strike="noStrike">
              <a:solidFill>
                <a:srgbClr val="30605a"/>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D9C88-DB4A-4F6B-9156-8A36455D98E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d9efe0"/>
                </a:gs>
                <a:gs pos="100000">
                  <a:srgbClr val="1533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4"/>
            <p:cNvSpPr/>
            <p:nvPr/>
          </p:nvSpPr>
          <p:spPr>
            <a:xfrm>
              <a:off x="0" y="0"/>
              <a:ext cx="8078760" cy="200160"/>
            </a:xfrm>
            <a:prstGeom prst="rect">
              <a:avLst/>
            </a:prstGeom>
            <a:gradFill rotWithShape="0">
              <a:gsLst>
                <a:gs pos="0">
                  <a:srgbClr val="15331e"/>
                </a:gs>
                <a:gs pos="100000">
                  <a:srgbClr val="d9efe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5"/>
            <p:cNvSpPr/>
            <p:nvPr/>
          </p:nvSpPr>
          <p:spPr>
            <a:xfrm>
              <a:off x="7953480" y="0"/>
              <a:ext cx="1203120" cy="6858000"/>
            </a:xfrm>
            <a:prstGeom prst="rect">
              <a:avLst/>
            </a:prstGeom>
            <a:gradFill rotWithShape="0">
              <a:gsLst>
                <a:gs pos="0">
                  <a:srgbClr val="8ba89e"/>
                </a:gs>
                <a:gs pos="50000">
                  <a:srgbClr val="a4c6ba"/>
                </a:gs>
                <a:gs pos="100000">
                  <a:srgbClr val="8ba89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Freeform 11"/>
                    <p:cNvSpPr/>
                    <p:nvPr/>
                  </p:nvSpPr>
                  <p:spPr>
                    <a:xfrm rot="16200000">
                      <a:off x="8752320" y="93960"/>
                      <a:ext cx="141480" cy="22608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7" name="Freeform 13"/>
                  <p:cNvSpPr/>
                  <p:nvPr/>
                </p:nvSpPr>
                <p:spPr>
                  <a:xfrm rot="16200000">
                    <a:off x="8756640" y="74520"/>
                    <a:ext cx="43200" cy="56880"/>
                  </a:xfrm>
                  <a:prstGeom prst="pie">
                    <a:avLst/>
                  </a:pr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08" name="Freeform 14"/>
                  <p:cNvSpPr/>
                  <p:nvPr/>
                </p:nvSpPr>
                <p:spPr>
                  <a:xfrm rot="16200000">
                    <a:off x="8829360" y="61200"/>
                    <a:ext cx="64080" cy="37080"/>
                  </a:xfrm>
                  <a:prstGeom prst="pie">
                    <a:avLst/>
                  </a:prstGeom>
                  <a:solidFill>
                    <a:srgbClr val="e7d6b7"/>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09" name="Freeform 15"/>
                  <p:cNvSpPr/>
                  <p:nvPr/>
                </p:nvSpPr>
                <p:spPr>
                  <a:xfrm rot="16200000">
                    <a:off x="8897760" y="111600"/>
                    <a:ext cx="24480" cy="60840"/>
                  </a:xfrm>
                  <a:prstGeom prst="pie">
                    <a:avLst/>
                  </a:prstGeom>
                  <a:solidFill>
                    <a:srgbClr val="e7d6b7"/>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0" name="Freeform 16"/>
                  <p:cNvSpPr/>
                  <p:nvPr/>
                </p:nvSpPr>
                <p:spPr>
                  <a:xfrm rot="16200000">
                    <a:off x="8824320" y="191520"/>
                    <a:ext cx="64080" cy="27360"/>
                  </a:xfrm>
                  <a:prstGeom prst="pie">
                    <a:avLst/>
                  </a:prstGeom>
                  <a:solidFill>
                    <a:srgbClr val="e7d6b7"/>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111" name="Freeform 17"/>
                  <p:cNvSpPr/>
                  <p:nvPr/>
                </p:nvSpPr>
                <p:spPr>
                  <a:xfrm rot="16200000">
                    <a:off x="8772120" y="165960"/>
                    <a:ext cx="38880" cy="42120"/>
                  </a:xfrm>
                  <a:prstGeom prst="pie">
                    <a:avLst/>
                  </a:pr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Freeform 47"/>
            <p:cNvSpPr/>
            <p:nvPr/>
          </p:nvSpPr>
          <p:spPr>
            <a:xfrm>
              <a:off x="7939080" y="4857840"/>
              <a:ext cx="1219320" cy="2000160"/>
            </a:xfrm>
            <a:prstGeom prst="pie">
              <a:avLst/>
            </a:pr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Freeform 48"/>
            <p:cNvSpPr/>
            <p:nvPr/>
          </p:nvSpPr>
          <p:spPr>
            <a:xfrm>
              <a:off x="7927920" y="2817720"/>
              <a:ext cx="1231920" cy="4037040"/>
            </a:xfrm>
            <a:prstGeom prst="pie">
              <a:avLst/>
            </a:prstGeom>
            <a:gradFill rotWithShape="0">
              <a:gsLst>
                <a:gs pos="0">
                  <a:srgbClr val="27423a"/>
                </a:gs>
                <a:gs pos="50000">
                  <a:srgbClr val="558f7d"/>
                </a:gs>
                <a:gs pos="100000">
                  <a:srgbClr val="2742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Freeform 51"/>
            <p:cNvSpPr/>
            <p:nvPr/>
          </p:nvSpPr>
          <p:spPr>
            <a:xfrm>
              <a:off x="8250120" y="262080"/>
              <a:ext cx="909720" cy="3071520"/>
            </a:xfrm>
            <a:prstGeom prst="pie">
              <a:avLst/>
            </a:prstGeom>
            <a:gradFill rotWithShape="0">
              <a:gsLst>
                <a:gs pos="0">
                  <a:srgbClr val="d9efe0"/>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Freeform 53"/>
            <p:cNvSpPr/>
            <p:nvPr/>
          </p:nvSpPr>
          <p:spPr>
            <a:xfrm>
              <a:off x="7943760" y="1440"/>
              <a:ext cx="300240" cy="3353040"/>
            </a:xfrm>
            <a:prstGeom prst="pie">
              <a:avLst/>
            </a:pr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55"/>
            <p:cNvSpPr/>
            <p:nvPr/>
          </p:nvSpPr>
          <p:spPr>
            <a:xfrm>
              <a:off x="7958160" y="6229440"/>
              <a:ext cx="1165320" cy="619200"/>
            </a:xfrm>
            <a:prstGeom prst="pie">
              <a:avLst/>
            </a:prstGeom>
            <a:gradFill rotWithShape="0">
              <a:gsLst>
                <a:gs pos="0">
                  <a:srgbClr val="d9efe0"/>
                </a:gs>
                <a:gs pos="50000">
                  <a:srgbClr val="a08f5e"/>
                </a:gs>
                <a:gs pos="100000">
                  <a:srgbClr val="d9efe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AutoShape 56"/>
            <p:cNvSpPr/>
            <p:nvPr/>
          </p:nvSpPr>
          <p:spPr>
            <a:xfrm rot="5400000">
              <a:off x="4323960" y="3316320"/>
              <a:ext cx="6858000" cy="225360"/>
            </a:xfrm>
            <a:prstGeom prst="pie">
              <a:avLst/>
            </a:prstGeom>
            <a:gradFill rotWithShape="0">
              <a:gsLst>
                <a:gs pos="0">
                  <a:srgbClr val="d9efe0"/>
                </a:gs>
                <a:gs pos="100000">
                  <a:srgbClr val="15331e"/>
                </a:gs>
              </a:gsLst>
              <a:lin ang="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Click to edit the title text format</a:t>
            </a:r>
            <a:endParaRPr b="0" lang="en-US" sz="4000" spc="-1" strike="noStrike">
              <a:solidFill>
                <a:srgbClr val="30605a"/>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95128-B199-4AE9-9895-713E051BB22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142640"/>
            <a:ext cx="69660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0605a"/>
                </a:solidFill>
                <a:latin typeface="Elephant"/>
              </a:rPr>
              <a:t>The Catcher in the Rye Presentation</a:t>
            </a:r>
            <a:endParaRPr b="0" lang="en-US" sz="3600" spc="-1" strike="noStrike">
              <a:solidFill>
                <a:srgbClr val="30605a"/>
              </a:solidFill>
              <a:latin typeface="Arial"/>
            </a:endParaRPr>
          </a:p>
        </p:txBody>
      </p:sp>
      <p:sp>
        <p:nvSpPr>
          <p:cNvPr id="193" name="PlaceHolder 2"/>
          <p:cNvSpPr>
            <a:spLocks noGrp="1"/>
          </p:cNvSpPr>
          <p:nvPr>
            <p:ph type="subTitle"/>
          </p:nvPr>
        </p:nvSpPr>
        <p:spPr>
          <a:xfrm>
            <a:off x="1143000" y="3733920"/>
            <a:ext cx="5640480" cy="175248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lephant"/>
              </a:rPr>
              <a:t>By: Chelsea</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lephant"/>
              </a:rPr>
              <a:t>Torrontegui</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Book Antiqua"/>
              </a:rPr>
              <a:t>J.D. Salinger</a:t>
            </a:r>
            <a:endParaRPr b="0" lang="en-US" sz="4000" spc="-1" strike="noStrike">
              <a:solidFill>
                <a:srgbClr val="30605a"/>
              </a:solidFill>
              <a:latin typeface="Arial"/>
            </a:endParaRPr>
          </a:p>
        </p:txBody>
      </p:sp>
      <p:sp>
        <p:nvSpPr>
          <p:cNvPr id="195" name="PlaceHolder 2"/>
          <p:cNvSpPr>
            <a:spLocks noGrp="1"/>
          </p:cNvSpPr>
          <p:nvPr>
            <p:ph/>
          </p:nvPr>
        </p:nvSpPr>
        <p:spPr>
          <a:xfrm>
            <a:off x="228600" y="1523520"/>
            <a:ext cx="7386480" cy="449748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erome David “J.D.” Salinger was born in Manhattan on New Years Day, 1919. </a:t>
            </a:r>
            <a:endParaRPr b="0" lang="en-US" sz="2400" spc="-1" strike="noStrike">
              <a:solidFill>
                <a:srgbClr val="000000"/>
              </a:solidFill>
              <a:latin typeface="Arial"/>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e is best known for his 1951 novel </a:t>
            </a:r>
            <a:r>
              <a:rPr b="0" lang="en-US" sz="2400" spc="-1" strike="noStrike" u="sng">
                <a:solidFill>
                  <a:srgbClr val="000000"/>
                </a:solidFill>
                <a:uFillTx/>
                <a:latin typeface="Book Antiqua"/>
              </a:rPr>
              <a:t>The Catcher on the Rye,</a:t>
            </a:r>
            <a:r>
              <a:rPr b="0" lang="en-US" sz="2400" spc="-1" strike="noStrike">
                <a:solidFill>
                  <a:srgbClr val="000000"/>
                </a:solidFill>
                <a:latin typeface="Book Antiqua"/>
              </a:rPr>
              <a:t> as well as his reclusive nature. </a:t>
            </a:r>
            <a:endParaRPr b="0" lang="en-US" sz="2400" spc="-1" strike="noStrike">
              <a:solidFill>
                <a:srgbClr val="000000"/>
              </a:solidFill>
              <a:latin typeface="Arial"/>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t has been almost thirty years since Salinger has been interviewed, and almost 45 years since he has published any original work.</a:t>
            </a:r>
            <a:endParaRPr b="0" lang="en-US" sz="2400" spc="-1" strike="noStrike">
              <a:solidFill>
                <a:srgbClr val="000000"/>
              </a:solidFill>
              <a:latin typeface="Arial"/>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rowing up in Manhattan, Salinger started to write stories in high school.</a:t>
            </a:r>
            <a:endParaRPr b="0" lang="en-US" sz="2400" spc="-1" strike="noStrike">
              <a:solidFill>
                <a:srgbClr val="000000"/>
              </a:solidFill>
              <a:latin typeface="Arial"/>
            </a:endParaRPr>
          </a:p>
          <a:p>
            <a:pPr marL="343080" indent="-34308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e also published a couple stories before serving in World War II.</a:t>
            </a:r>
            <a:endParaRPr b="0" lang="en-US" sz="2400" spc="-1" strike="noStrike">
              <a:solidFill>
                <a:srgbClr val="000000"/>
              </a:solidFill>
              <a:latin typeface="Arial"/>
            </a:endParaRPr>
          </a:p>
          <a:p>
            <a:pPr marL="343080" indent="-34308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o this day Catcher in the Rye sales around 250,000 copies a year.</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Georgia"/>
              </a:rPr>
              <a:t>The Catcher in the Rye</a:t>
            </a:r>
            <a:endParaRPr b="0" lang="en-US" sz="4000" spc="-1" strike="noStrike">
              <a:solidFill>
                <a:srgbClr val="30605a"/>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eorgia"/>
              </a:rPr>
              <a:t>The Catcher in the Rye</a:t>
            </a:r>
            <a:r>
              <a:rPr b="0" lang="en-US" sz="2000" spc="-1" strike="noStrike">
                <a:solidFill>
                  <a:srgbClr val="000000"/>
                </a:solidFill>
                <a:latin typeface="Georgia"/>
              </a:rPr>
              <a:t> is a story based around a teenage boy in the 1950’s. The main character is Holden Caulfield, a seventeen year old boy going back to tell us what his life was like around 16 years of age. He takes us through what he experiences at his private school. Also what he experiences after getting kicked out.</a:t>
            </a:r>
            <a:endParaRPr b="0" lang="en-US" sz="2000" spc="-1" strike="noStrike">
              <a:solidFill>
                <a:srgbClr val="000000"/>
              </a:solidFill>
              <a:latin typeface="Arial"/>
            </a:endParaRPr>
          </a:p>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 think the title of the book is based on Holden and what he wants in life. He’s a confused teenager struggling with taking on responsibilities as well as trying to hold on to things that haven’t changed with his constant changing life. He wants normality and consistency. When asked by his younger sister Phoebe, what he wants in life, he says he would want to be the catcher in the rye. Catching those falling of the edge of a cliff, while playing in a field of ry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Tahoma"/>
              </a:rPr>
              <a:t>Catcher Theme</a:t>
            </a:r>
            <a:endParaRPr b="0" lang="en-US" sz="4000" spc="-1" strike="noStrike">
              <a:solidFill>
                <a:srgbClr val="30605a"/>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theme of this book represents insecurities and loneliness. Holden has a feeling of neglect during the entirety of the book. He struggles with so many of his dislikes throughout the story. He really doesn’t know what he wants to do with his life and where he’s going.</a:t>
            </a:r>
            <a:endParaRPr b="0" lang="en-US" sz="1800" spc="-1" strike="noStrike">
              <a:solidFill>
                <a:srgbClr val="000000"/>
              </a:solidFill>
              <a:latin typeface="Arial"/>
            </a:endParaRPr>
          </a:p>
        </p:txBody>
      </p:sp>
      <p:pic>
        <p:nvPicPr>
          <p:cNvPr id="200" name="Picture 5" descr="http://castletroycollege.net/english/wp-content/uploads/2009/09/holden-caulfield.gif"/>
          <p:cNvPicPr/>
          <p:nvPr/>
        </p:nvPicPr>
        <p:blipFill>
          <a:blip r:embed="rId2"/>
          <a:stretch/>
        </p:blipFill>
        <p:spPr>
          <a:xfrm>
            <a:off x="2438280" y="2895480"/>
            <a:ext cx="3152880" cy="315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Figurative Language</a:t>
            </a:r>
            <a:endParaRPr b="0" lang="en-US" sz="4000" spc="-1" strike="noStrike">
              <a:solidFill>
                <a:srgbClr val="30605a"/>
              </a:solidFill>
              <a:latin typeface="Arial"/>
            </a:endParaRPr>
          </a:p>
        </p:txBody>
      </p:sp>
      <p:sp>
        <p:nvSpPr>
          <p:cNvPr id="202"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Catcher in the Rye there are vast number of figurative language examples such a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page 69, Holden says, "In New York, boy, money really talks- I'm not kidding," which is personific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page 2, Holden says, "Now he's out in Hollywood, D.B., being a prostitute," which is a metaph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on page 5, he says, "It was icy as hell and i damn near fell down," which is a simile.</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Berlin Sans FB Demi"/>
              </a:rPr>
              <a:t>Characterization</a:t>
            </a:r>
            <a:endParaRPr b="0" lang="en-US" sz="4000" spc="-1" strike="noStrike">
              <a:solidFill>
                <a:srgbClr val="30605a"/>
              </a:solidFill>
              <a:latin typeface="Arial"/>
            </a:endParaRPr>
          </a:p>
        </p:txBody>
      </p:sp>
      <p:sp>
        <p:nvSpPr>
          <p:cNvPr id="204"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Demi"/>
              </a:rPr>
              <a:t>Phoebe Caulfield is Holden's younger sister. According to Holden she is very smart kid. She's very affectionate and at times a bit too much for Holden's liking. She can be extremely stubborn when things aren't her way. She is very pretty, has red hair, tiny ears, and is ten years ol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Demi"/>
              </a:rPr>
              <a:t>Phoebe is important in Holden's life because she's the one person since Allie died that he can connect with. She lets him know that his behavior is disappointing. She loves him so much that when he says he is leaving she wants to go with him.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Demi"/>
              </a:rPr>
              <a:t>On page 206 she tells Holden, "I'm going with you. Can I? Oka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Britannic Bold"/>
              </a:rPr>
              <a:t>Dog Poop</a:t>
            </a:r>
            <a:endParaRPr b="0" lang="en-US" sz="4000" spc="-1" strike="noStrike">
              <a:solidFill>
                <a:srgbClr val="30605a"/>
              </a:solidFill>
              <a:latin typeface="Arial"/>
            </a:endParaRPr>
          </a:p>
        </p:txBody>
      </p:sp>
      <p:sp>
        <p:nvSpPr>
          <p:cNvPr id="206"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I think Holden's issue is letting things go and accepting change. Throughout the story he has problems with all things involving change. The things that are significant to him are those things stayed the same like, Allie's baseball glove and the museum he went to as a ki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The best thing, though, in that museum was that everything always stayed right where it was." (pg. 121)</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Elephant"/>
              </a:rPr>
              <a:t>Symbolism</a:t>
            </a:r>
            <a:endParaRPr b="0" lang="en-US" sz="4000" spc="-1" strike="noStrike">
              <a:solidFill>
                <a:srgbClr val="30605a"/>
              </a:solidFill>
              <a:latin typeface="Arial"/>
            </a:endParaRPr>
          </a:p>
        </p:txBody>
      </p:sp>
      <p:sp>
        <p:nvSpPr>
          <p:cNvPr id="208"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lephant"/>
              </a:rPr>
              <a:t>Allie's Glove: I think the glove symbolizes Allie. It was his favorite poems he wrote on there. It belonged to him. This would allow Holden to take a trip down memory lane at any given time. It gave remembrance to Alli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lephant"/>
              </a:rPr>
              <a:t>Red Hat:  I think the hat to Holden is a shield to be unnoticed. he would put it on whenever he was in public. when he was by himself from the worl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263520" y="685800"/>
            <a:ext cx="7386480" cy="541008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Lucida Fax"/>
              </a:rPr>
              <a:t>The End</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Fax"/>
              </a:rPr>
              <a:t>Chelsea Torrontegui</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Fax"/>
              </a:rPr>
              <a:t>Vasquez/ Period 1</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Fax"/>
              </a:rPr>
              <a:t>10/29/09</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2T23:08:24Z</dcterms:created>
  <dc:creator>ECVHS</dc:creator>
  <dc:description/>
  <dc:language>en-US</dc:language>
  <cp:lastModifiedBy>Nvasquez</cp:lastModifiedBy>
  <dcterms:modified xsi:type="dcterms:W3CDTF">2010-02-23T22:09:54Z</dcterms:modified>
  <cp:revision>9</cp:revision>
  <dc:subject/>
  <dc:title>Catcher in the Rye Presentation</dc:title>
</cp:coreProperties>
</file>